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E3-FB13-46E8-AE88-4E53283B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F8C-55F3-4E09-AB0F-DE03E4D9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63F-312E-471F-A51F-A6B9152F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00F-A3EB-4BEB-A41F-78B6797E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9F9-D7E2-489E-8CB5-8A40002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B7C-5043-4613-838C-F0C3EB35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1A0-86DB-47E8-BA60-282BC00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803-A1D5-45E9-9AA8-6160F722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44D-2F93-4CAF-93EB-316CA4F3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E9B-5312-4C14-9EED-A1ED868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872-9EBC-4149-AECD-24601BF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D67-4E0E-43F3-85CE-678473B4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430-BD49-4866-803F-EB6C3101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ório resumido das atividades desenvolvidas na EMEF Jerusalém da Amazô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 a 23 de novem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ene Mor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e 2º ano do ensino 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9/11 - 1º episódio de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o ou não co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rianças ficaram envolvidas e atentas com a apresentação dos fantoches. Em sala de aula tiveram a idéia de criar outra estória, dar nomes aos personagens e formar um coral para apresentar no encerramento do ano letivo. Surgiu a idéia de apresentar 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o ou não conto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 outras tur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riana de Fáti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º ano do ensino 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0/11 - 2º episódio de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o ou não co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 as descobertas do segredo, houve o primeiro aprendizado: saber ouvir o que nos dizem. Distinguiram claramente o papel que cada personagem desempenhou e a importância de se pensar antes de fa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ílio Rodrig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º e 5º ano do ensino 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1/11 - 3º episódio de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o ou não co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ste terceiro capítulo os alunos comentaram a estória em sala de aula e diziam um aos outros que segredo não se deve revelar, pois é uma quebra de confiança. Sugeri que os alunos produzissem um texto com o títul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Segred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ene Mor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º e 2º ano do ensino 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2/11 - 4º episódio de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o ou não co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segredo das primas está por um fio... As crianças que não sabem ler relatam suas estórias por meio de desenhos e lêem para toda tur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260720" y="-360"/>
            <a:ext cx="69102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Jerusa e Dorcas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ntram </a:t>
            </a:r>
            <a:br>
              <a:rPr sz="4000"/>
            </a:b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em cen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497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ílio Rodrig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º e 5º ano do ensino 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3/11 - 5º episódio de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nto ou não co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guntei aos alunos o que eles acharam da estória e da apresentação. A maioria disse que foi divertido e gostaram muito. A mensagem tirada da estória é que nunca se deve fofoc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8:22:53Z</dcterms:created>
  <dc:creator>Abel</dc:creator>
  <dc:description/>
  <dc:language>en-US</dc:language>
  <cp:lastModifiedBy>Abel Sidney</cp:lastModifiedBy>
  <dcterms:modified xsi:type="dcterms:W3CDTF">2008-07-29T18:45:56Z</dcterms:modified>
  <cp:revision>5</cp:revision>
  <dc:subject/>
  <dc:title>letramento s.m.</dc:title>
</cp:coreProperties>
</file>