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502-3559-4AB2-B667-A2E38139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E2C-E3AE-4149-9239-E5DCDBD3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3C4B-2B3A-4AC7-B76F-0B58A3B3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763-817F-48B4-AE06-EBE5CEB8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775-3347-4549-B7AB-7652FECC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EDD-056D-4742-97A5-B5554742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23A-F8C3-45C6-8C82-0CE0575C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472-4AD9-4296-9126-84132A08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C9D-02F4-4694-B960-4E44676C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B5D-0CC2-4408-A7EE-7FB39D51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56C-A245-4641-9B5F-13C3F0C6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4CD-F083-43A2-9204-91E31AF0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FDA3-AEF6-49E1-B2AE-A7E8DEC2F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4822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et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2349360"/>
            <a:ext cx="84978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ramento é o estado em que vive o indivíduo que não só sabe ler e escrever, mas exerce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áticas sociais de leitura e escri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 circulam na sociedade em que viv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abe ler e l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ornais, revistas, livros; sabe ler e interpretar tabelas, quadros, formulários, sua carteira de trabalho, suas contas de água, luz, telefone;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abe escrever e escre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tas, bilhetes, telegramas sem dificuldade, sabe preencher um formulário, sabe redigir um ofício, um requerimen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da Becker So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72040" y="0"/>
            <a:ext cx="31719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8:22:53Z</dcterms:created>
  <dc:creator>Abel</dc:creator>
  <dc:description/>
  <dc:language>en-US</dc:language>
  <cp:lastModifiedBy>Abel</cp:lastModifiedBy>
  <dcterms:modified xsi:type="dcterms:W3CDTF">2007-12-18T11:03:50Z</dcterms:modified>
  <cp:revision>3</cp:revision>
  <dc:subject/>
  <dc:title>letramento s.m.</dc:title>
</cp:coreProperties>
</file>