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0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57.jpeg" ContentType="image/jpeg"/>
  <Override PartName="/ppt/media/image43.png" ContentType="image/png"/>
  <Override PartName="/ppt/media/image53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4.jpeg" ContentType="image/jpeg"/>
  <Override PartName="/ppt/media/image34.jpeg" ContentType="image/jpeg"/>
  <Override PartName="/ppt/media/image56.jpeg" ContentType="image/jpeg"/>
  <Override PartName="/ppt/media/image58.jpeg" ContentType="image/jpeg"/>
  <Override PartName="/ppt/media/image59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55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F011-8791-42CF-83EC-D497C498D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1210-6EEA-4204-86A9-471AE7D2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B931-37E9-48D8-AED6-0DC233A47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2D3A-9C7B-43BB-B098-55F849ACA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D534-48A8-4A9B-8B33-FA71166C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A549-4C1B-4759-ADFA-98A1AD22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0B9B-1FC9-49DE-8514-79FF7F8B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9307-3F6C-487C-9A34-F88BBB0F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D0D6-78D1-4E7A-9F45-5EFE8234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BE17-CCF8-47F5-84F6-98C0D9EA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08E9-2BDB-4873-87C7-F63F3828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B315-53B1-47FA-9782-96289015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C9C7-E543-4025-9A9B-42C9FDB1A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jpeg"/><Relationship Id="rId3" Type="http://schemas.openxmlformats.org/officeDocument/2006/relationships/hyperlink" Target="file:///amenina.ppt" TargetMode="External"/><Relationship Id="rId4" Type="http://schemas.openxmlformats.org/officeDocument/2006/relationships/hyperlink" Target="file:///amenina.ppt" TargetMode="External"/><Relationship Id="rId5" Type="http://schemas.openxmlformats.org/officeDocument/2006/relationships/hyperlink" Target="file:///amenina_aluno.ppt" TargetMode="External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jpeg"/><Relationship Id="rId3" Type="http://schemas.openxmlformats.org/officeDocument/2006/relationships/hyperlink" Target="file:///conto.ppt" TargetMode="External"/><Relationship Id="rId4" Type="http://schemas.openxmlformats.org/officeDocument/2006/relationships/hyperlink" Target="file:///Jerusa.ppt" TargetMode="External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6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6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6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4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4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4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4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4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4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letramento.ppt" TargetMode="External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7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7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7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7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4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7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7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file:///mural.ppt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omenino.ppt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33520" cy="2143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229440" y="0"/>
            <a:ext cx="2914560" cy="2019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55640" y="2565360"/>
            <a:ext cx="7921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 de incentivo à leitura e produção textual Livro-carta-mur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plicações 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éto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 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mato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livro-car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livro-no-m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132000" y="5589720"/>
            <a:ext cx="2705400" cy="1000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362720" y="0"/>
            <a:ext cx="1781280" cy="1905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5429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455840" y="560520"/>
            <a:ext cx="7688160" cy="35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99"/>
                </a:solidFill>
                <a:latin typeface="Arial"/>
              </a:rPr>
              <a:t>2007-1: novas experiências e uma surpre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este piloto em mais duas escolas, desta ve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de municipal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. 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scola Olavo Pire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no bairr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4 de Janeiro e 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scola 8 de Març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no bairro São Francis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ão as escolhidas. 483 alunos lêem e produzem tex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 matéria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Leitura no mural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produzida pela repór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 apresentadora Andréia Fortini, da TV Rondôni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lcança o 2º lugar no Prêmio IGE de Jornalism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a categoria Televisão Reg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84360" y="4143240"/>
            <a:ext cx="2887560" cy="27147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3665520" y="4116240"/>
            <a:ext cx="5292720" cy="2741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362720" y="0"/>
            <a:ext cx="1781280" cy="190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54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55840" y="560520"/>
            <a:ext cx="7688160" cy="53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2007-2: novas descobert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s capítulos de uma estória, dispostos 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ral em seqüência, devidamente adaptad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mbém funcionam... Surge o livro-no-mural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caso d’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 menina que salvou  o seu cachorro de mor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em ter visto a vida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 Escola Estadual Santa Marcelina, 1077 alun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utam espaço no mural para a leitura da estória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ele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t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Não há recursos disponíveis para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essão do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material do alun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s professores se empenham e demonstram o qua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dem contribuir neste trabalho, indo além do si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mprimento de seus deveres profissionai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2124000" y="5256360"/>
            <a:ext cx="5437440" cy="1601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362720" y="0"/>
            <a:ext cx="1781280" cy="190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542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455840" y="560520"/>
            <a:ext cx="7688160" cy="39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2007-2: as surpresas continuam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caso da narrativa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onto ou não conto?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cola Municipal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Jerusalém da Amazônia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(zona rur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aumento da freqüência às aulas e a intensa particip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s alunos nas diversas atividades propostas. O teatr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tilizado pelos professores 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sejad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elos alun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 juntam à leitura e à escri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s professores, novamente, fazem a diferença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ão h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terial do alun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A mesma necessidade que faz o home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rimora o métod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476360" y="4343400"/>
            <a:ext cx="3476520" cy="2514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5148360" y="4334040"/>
            <a:ext cx="3495600" cy="2523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362720" y="0"/>
            <a:ext cx="1781280" cy="190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542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455840" y="560520"/>
            <a:ext cx="7688160" cy="65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2008-1: uma nova etapa – Senac-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Senac-RO contratou a elaboração de 3 (trê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rrativas para oferecer aos seus alunos, com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erial  paradidático nos cursos do programa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Educação Profissional para Mulheres de Baixa Renda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Chefes de Família  - Formação Profissional em Ar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Ocupaciona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s próximas três lâminas desta apresen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raremos os primeiros capítulos das narrativas citada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s Arcos Profissionais cujas narrativas serão mostr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 seqüência são, a sab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US" sz="2000" spc="-1" strike="noStrike">
                <a:solidFill>
                  <a:srgbClr val="ff7c80"/>
                </a:solidFill>
                <a:latin typeface="Arial"/>
              </a:rPr>
              <a:t>Zelador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secretária doméstica e zeladoria de edifí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 empresas;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2000" spc="-1" strike="noStrike">
                <a:solidFill>
                  <a:srgbClr val="ff7c80"/>
                </a:solidFill>
                <a:latin typeface="Arial"/>
              </a:rPr>
              <a:t>Gastronom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salgadeira e confeite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en-US" sz="2000" spc="-1" strike="noStrike">
                <a:solidFill>
                  <a:srgbClr val="ff7c80"/>
                </a:solidFill>
                <a:latin typeface="Arial"/>
              </a:rPr>
              <a:t>Saúde infanti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babá (baby-sitter) e auxiliar de cre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76520" cy="15429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455840" y="560520"/>
            <a:ext cx="7688160" cy="48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s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personagens princip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O livro-carta e o livro-no-mu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livro-carta pode ser concebido como um me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rmo entre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t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dagog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escla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à litera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tiliza-se no livro-carta a técnica d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lheti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u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rrativa publicada em fragmentos, em capítul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novela de televisão é inspirada no folhetim. O livro-ca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de,  pois, ser concebido como um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vel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o se usar a técnica d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t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missiva ou epístola –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mbém reconhecida como gênero literário, se estabele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m contato direto, face a face com o leitor, pois é a ele 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 dirige, claramente, o diálogo, a narra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692360" y="5373720"/>
            <a:ext cx="1081080" cy="799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759800" y="0"/>
            <a:ext cx="1384200" cy="2060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3419640" y="5940360"/>
            <a:ext cx="1081080" cy="917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5003640" y="5097600"/>
            <a:ext cx="3641760" cy="1760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76520" cy="1542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455840" y="560520"/>
            <a:ext cx="768816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s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personagens princip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O livro-carta no mu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as principais características s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ustração adequada ao público-al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o do papel em A3 color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759800" y="0"/>
            <a:ext cx="1384200" cy="2060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116000" y="2565360"/>
            <a:ext cx="7128000" cy="4292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76520" cy="15429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455840" y="560520"/>
            <a:ext cx="768816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s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personagens princip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O livro-no-mu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características de apresentação são as mesm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ustração adequada ao público-al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o do papel em A3 color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759800" y="0"/>
            <a:ext cx="1384200" cy="2060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187280" y="2657520"/>
            <a:ext cx="6963120" cy="42004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76520" cy="1542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43880" y="0"/>
            <a:ext cx="2400120" cy="1666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455840" y="560520"/>
            <a:ext cx="6769080" cy="37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Visão panorâmic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 livro-carta e o livro-no-mural te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r base a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leitura diária e seqüenciad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 uma narrativa, tal como um folheti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 mural da escola são colocados 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pítulos da narrativa, como meio de atra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curiosidade e a atenção dos alunos (e p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tensão, de todos na escol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68360" y="4076640"/>
            <a:ext cx="8136000" cy="2544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76520" cy="1542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455840" y="560520"/>
            <a:ext cx="76881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s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personagens princip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O livro carta e sua se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duas seções do livro-carta, que compõem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terial do alun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são: 1)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da carta e da narrativ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à esquerda da página e 2)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da interação com o lei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à direi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759800" y="0"/>
            <a:ext cx="1384200" cy="2060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116000" y="2448000"/>
            <a:ext cx="7128000" cy="4410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759800" y="0"/>
            <a:ext cx="1384200" cy="2060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542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455840" y="560520"/>
            <a:ext cx="768816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s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personagens princip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O método livro-carta </a:t>
            </a:r>
            <a:r>
              <a:rPr b="1" lang="en-US" sz="1800" spc="-1" strike="noStrike">
                <a:solidFill>
                  <a:srgbClr val="7ac2c8"/>
                </a:solidFill>
                <a:latin typeface="Arial"/>
              </a:rPr>
              <a:t>Par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 livro-carta é um  método, um  “meio de se faz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guma coisa, especificamente de acordo com um plano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s iniciais e estratégicas de aplicaçã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o métod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Apresentação aos dirigentes da instituição envolvida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Reunião e treinamento com professores e técni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 adequaçã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grama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e do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étod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à instituição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 Envolvimento do público-alvo e daqueles que podem auxili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estímulo e manutenção da proposta de trabal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lunos, familiares e  formadores de opiniã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132000" y="4578480"/>
            <a:ext cx="3456000" cy="2279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759800" y="0"/>
            <a:ext cx="1384200" cy="2060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542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55840" y="560520"/>
            <a:ext cx="76881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s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personagens princip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O método livro-carta </a:t>
            </a:r>
            <a:r>
              <a:rPr b="1" lang="en-US" sz="1800" spc="-1" strike="noStrike">
                <a:solidFill>
                  <a:srgbClr val="7ac2c8"/>
                </a:solidFill>
                <a:latin typeface="Arial"/>
              </a:rPr>
              <a:t>Part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ções operaciona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ecessárias à aplic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métod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Afixação dos capítulos da narrativa no mural, o 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orrerá  todos os dias, antes do início das aul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0" y="2743200"/>
            <a:ext cx="881208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759800" y="0"/>
            <a:ext cx="1384200" cy="2060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542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455840" y="560520"/>
            <a:ext cx="76881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Arial"/>
              </a:rPr>
              <a:t>Os </a:t>
            </a:r>
            <a:r>
              <a:rPr b="1" i="1" lang="pt-BR" sz="1800" spc="-1" strike="noStrike">
                <a:solidFill>
                  <a:srgbClr val="333399"/>
                </a:solidFill>
                <a:latin typeface="Arial"/>
              </a:rPr>
              <a:t>personagens princip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7c80"/>
                </a:solidFill>
                <a:latin typeface="Arial"/>
              </a:rPr>
              <a:t>O método livro-carta </a:t>
            </a:r>
            <a:r>
              <a:rPr b="1" lang="pt-BR" sz="1800" spc="-1" strike="noStrike">
                <a:solidFill>
                  <a:srgbClr val="7ac2c8"/>
                </a:solidFill>
                <a:latin typeface="Arial"/>
              </a:rPr>
              <a:t>Part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Ações operacionai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necessárias à aplic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o métod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2) Entrega ao aluno da folha-para-se-levar-para-casa, lo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após o recrei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, comprovadamente o melhor momento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professor receberá e distribuirá este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material do alun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,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ersonalizado (com o nome pelo qual o aluno é chamad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042920" y="3382920"/>
            <a:ext cx="7201080" cy="3475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759800" y="0"/>
            <a:ext cx="1384200" cy="2060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5429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455840" y="560520"/>
            <a:ext cx="7688160" cy="47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s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personagens princip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O método livro-carta </a:t>
            </a:r>
            <a:r>
              <a:rPr b="1" lang="en-US" sz="1800" spc="-1" strike="noStrike">
                <a:solidFill>
                  <a:srgbClr val="7ac2c8"/>
                </a:solidFill>
                <a:latin typeface="Arial"/>
              </a:rPr>
              <a:t>Part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ções operaciona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ecessárias à aplic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métod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 Leitura do capítulo em sala de au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A leitura pode ser feita individualmente, em silêncio 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 dupla, em voz baixa. Ou a combinação das duas for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Depois disso, pode-se fazer uma leitura coletiva  e/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matizada, escolhendo-se alguns dos alu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 assumirem o papel dos personage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As atividades lúdicas da seção de interação é 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mportante recurs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em torno do qual pode ha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ma proveitosa vivência entre alunos e professor(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300720" y="5105520"/>
            <a:ext cx="2109960" cy="1752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619280" y="5157720"/>
            <a:ext cx="2087640" cy="1700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759800" y="0"/>
            <a:ext cx="1384200" cy="2060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5429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455840" y="560520"/>
            <a:ext cx="7688160" cy="47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s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personagens princip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O método livro-carta </a:t>
            </a:r>
            <a:r>
              <a:rPr b="1" lang="en-US" sz="1800" spc="-1" strike="noStrike">
                <a:solidFill>
                  <a:srgbClr val="7ac2c8"/>
                </a:solidFill>
                <a:latin typeface="Arial"/>
              </a:rPr>
              <a:t>Part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ções operaciona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ecessárias à aplic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métod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) Produção tex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Em cada capítulo há um convite à produção de text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 pode ir da elaboração de pequenas frases à red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textos mais ou menos long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Nas diversas seções do livro (a parte d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r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d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arrativ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da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área de interaçã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encontram-se sugestões de t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 a produção textu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Ao final da estória é possível ainda se propor um concu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redação mais formal, com premiação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692360" y="5184720"/>
            <a:ext cx="2527200" cy="1673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5796000" y="5184720"/>
            <a:ext cx="2808360" cy="1673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759800" y="0"/>
            <a:ext cx="1384200" cy="2060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5429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455840" y="560520"/>
            <a:ext cx="768816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s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personagens princip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O método livro-carta </a:t>
            </a:r>
            <a:r>
              <a:rPr b="1" lang="en-US" sz="1800" spc="-1" strike="noStrike">
                <a:solidFill>
                  <a:srgbClr val="7ac2c8"/>
                </a:solidFill>
                <a:latin typeface="Arial"/>
              </a:rPr>
              <a:t>Part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ções operaciona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ecessárias à aplic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métod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) A utilização do m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O mural servirá, após o encerramento da narrativa, pa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mediatamen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olher os textos produzidos pelos alun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Posteriormente à mostra de produção textual dos alun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comenda-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m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ra ativida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que não a de leitur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476360" y="4005360"/>
            <a:ext cx="7201080" cy="2852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759800" y="0"/>
            <a:ext cx="1384200" cy="2060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5429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455840" y="560520"/>
            <a:ext cx="7688160" cy="56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Arial"/>
              </a:rPr>
              <a:t>Os </a:t>
            </a:r>
            <a:r>
              <a:rPr b="1" i="1" lang="pt-BR" sz="1800" spc="-1" strike="noStrike">
                <a:solidFill>
                  <a:srgbClr val="333399"/>
                </a:solidFill>
                <a:latin typeface="Arial"/>
              </a:rPr>
              <a:t>personagens princip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7c80"/>
                </a:solidFill>
                <a:latin typeface="Arial"/>
              </a:rPr>
              <a:t>O método livro-carta </a:t>
            </a:r>
            <a:r>
              <a:rPr b="1" lang="pt-BR" sz="1800" spc="-1" strike="noStrike">
                <a:solidFill>
                  <a:srgbClr val="7ac2c8"/>
                </a:solidFill>
                <a:latin typeface="Arial"/>
              </a:rPr>
              <a:t>Parte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s desdobramentos da utilização do m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) Atividades extras do m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) exposição fotográfica e de infográficos temático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) debate sobre um tema específico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blog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ou jornais-murais produzido pelos alu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2) Múltiplos murais, múltiplos espaç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.  Pode-se trabalhar estórias específicas para cada gru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 tur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. Pode-se alternar a utilização dos murais com a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fer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. Cria-se permanentes espaços de leitura/escrita, disponív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à toda comunidade escolar (diversos mura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3965400" y="5648400"/>
            <a:ext cx="1810080" cy="1209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6732720" y="5638680"/>
            <a:ext cx="1619280" cy="1219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1763640" y="5638680"/>
            <a:ext cx="134316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76520" cy="15429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455840" y="560520"/>
            <a:ext cx="7688160" cy="51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ormato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livro-carta         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método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 aplicação do método        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 formato e métod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ivro-cart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de 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licado de forma pontual, para se atingir f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pecíficos, como em um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mpanha de saú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por exemp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entanto, para construirmos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petência de leitura e escri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ntro do conceito d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etramen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vemos trabalhar em 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rizonte temporal mais va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 necessário instituir ações de caráter permanente em to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um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rogram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aboramos, pois, as bases do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rograma de Incentivo à Leitura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rodução Textual Livro-Carta-Mur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que apresentaremos 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alhes nas próximas págin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927600" y="658080"/>
            <a:ext cx="431640" cy="160200"/>
          </a:xfrm>
          <a:prstGeom prst="rightArrow">
            <a:avLst>
              <a:gd name="adj1" fmla="val 50000"/>
              <a:gd name="adj2" fmla="val 67360"/>
            </a:avLst>
          </a:prstGeom>
          <a:solidFill>
            <a:srgbClr val="333399"/>
          </a:solidFill>
          <a:ln cap="rnd" w="3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105440" y="946080"/>
            <a:ext cx="431640" cy="160560"/>
          </a:xfrm>
          <a:prstGeom prst="rightArrow">
            <a:avLst>
              <a:gd name="adj1" fmla="val 50000"/>
              <a:gd name="adj2" fmla="val 67209"/>
            </a:avLst>
          </a:prstGeom>
          <a:solidFill>
            <a:srgbClr val="333399"/>
          </a:solidFill>
          <a:ln cap="rnd" w="3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547640" y="5343480"/>
            <a:ext cx="1428840" cy="15145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4572000" y="5373720"/>
            <a:ext cx="1411200" cy="1484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7093080" y="5300640"/>
            <a:ext cx="1245960" cy="1557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7666200" y="0"/>
            <a:ext cx="1477800" cy="1773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76520" cy="15429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455840" y="560520"/>
            <a:ext cx="76881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rograma de incentivo à leitura e produção tex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ivro-carta-m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Apresentação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093080" y="0"/>
            <a:ext cx="2050920" cy="1538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008000" y="1989000"/>
            <a:ext cx="813600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 cenários da alfabetização e letramento no Brasi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enas 28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a população brasileira na faixa de 15 a 64 anos de 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ão plenamente alfabetizados (INAF, 200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Na 8ª série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enas 9,3%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ão leitores competentes e demonst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bilidades de leitura compatíveis com a série cursada (SAEB, 200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Por outro lado, o fat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ábito de leitu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tá associado diretamente 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mpenho dos alunos. A média apurada pelo SAEB (2003) entre 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udantes  que  afirmam  ter 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ume de ler livros, jornais e revis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 mai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 todas as séries avaliadas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659640" y="5084640"/>
            <a:ext cx="2233440" cy="1773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1692360" y="5129280"/>
            <a:ext cx="2303280" cy="1728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76520" cy="1542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43880" y="0"/>
            <a:ext cx="2400120" cy="1666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455840" y="560520"/>
            <a:ext cx="7437240" cy="35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99"/>
                </a:solidFill>
                <a:latin typeface="Arial"/>
              </a:rPr>
              <a:t>Visão panorâmica I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Os capítulos são lidos coletivamente,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pt-BR" sz="2200" spc="-1" strike="noStrike" u="sng">
                <a:solidFill>
                  <a:srgbClr val="000000"/>
                </a:solidFill>
                <a:uFillTx/>
                <a:latin typeface="Arial"/>
              </a:rPr>
              <a:t>pátio da escola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ou na </a:t>
            </a:r>
            <a:r>
              <a:rPr b="1" lang="pt-BR" sz="2200" spc="-1" strike="noStrike" u="sng">
                <a:solidFill>
                  <a:srgbClr val="000000"/>
                </a:solidFill>
                <a:uFillTx/>
                <a:latin typeface="Arial"/>
              </a:rPr>
              <a:t>sala de aula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m cada turma.  Os recursos mais utilizados são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leitura dramatizada e as apresentações teatrai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Um importante elemento de apoio é 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material-do-aluno-levar-para-casa, fundamental 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eforço à leitura e na produção textua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835280" y="3716280"/>
            <a:ext cx="5486400" cy="3141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76520" cy="15429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455840" y="560520"/>
            <a:ext cx="76881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rograma de incentivo à leitura e produção tex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ivro-carta-m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Apresentação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093080" y="0"/>
            <a:ext cx="2050920" cy="1538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008000" y="1989000"/>
            <a:ext cx="8136000" cy="32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mitações mac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falta de recursos para investimento imediato em projetos o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as de porte, que atendam a todas as escol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tencialidades mic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a inesgotável criatividade e empenho dos gestor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écnicos e professores das escolas (acrescendo ainda os alunos/pais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a livro-cart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mite aproveita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erar as limitaçõ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oveit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potencialidad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 por isso é uma alternativa efetiva para o desenvolvi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s requeridas e necessárias competências do aluno como leitor/escrit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ará respostas convincentes a este desafio: como criar condiçõ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stentáveis para que os alunos tornem-se competentes leitores e escritores,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a autônoma, com motivação para ler e escrever com prazer?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1403280" y="5248440"/>
            <a:ext cx="2143080" cy="16095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6588000" y="5238720"/>
            <a:ext cx="2159280" cy="161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76520" cy="15429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455840" y="560520"/>
            <a:ext cx="76881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rograma de incentivo à leitura e produção tex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ivro-carta-m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Justific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7093080" y="0"/>
            <a:ext cx="2050920" cy="1538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424160" y="2003400"/>
            <a:ext cx="768960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s fatores críticos no estabelecimento do hábito de leitura de um po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u mesmo de um indivíduo, segundo a Unesco, são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) ter nascido numa família de leitores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er passado a juventude num sistema escolar preocupado com 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stabelecimento do hábito de leitura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) o preço do livro e o valor simbólico que a população lhe atribu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É fundamental, pois,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 papel da escola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como fomentadora de prática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que reforcem o gosto pela leitura e escrita.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material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e o 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método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oferecido por est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ograma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ajuda a promo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a escol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as ações necessárias para a formação deste aluno competente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2340000" y="5334120"/>
            <a:ext cx="510552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76520" cy="15429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455840" y="560520"/>
            <a:ext cx="76881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rograma de incentivo à leitura e produção tex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ivro-carta-m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7093080" y="0"/>
            <a:ext cx="2050920" cy="15382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442880" y="2079720"/>
            <a:ext cx="7689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Instigar os alunos à leitura e produção textual do modo m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ontâneo possível, utilizando-se do método livro-carta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Promover a interação entre escola, pais e alunos em torno da leitura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ção textual, em caráter permanente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2771640" y="4191120"/>
            <a:ext cx="453564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76520" cy="15429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455840" y="560520"/>
            <a:ext cx="76881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rograma de incentivo à leitura e produção tex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ivro-carta-m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7093080" y="0"/>
            <a:ext cx="2050920" cy="15382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461960" y="2060640"/>
            <a:ext cx="7689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pecíf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Ampliar o vocabulário dos alunos, auxiliando-os na elabor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seu acervo léxic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Incentivar os alunos a criar suas próprias narrativas e 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rcitar em suas escolhas face aos desafios propostos 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ividades-extras contidas nas estória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Colaborar na formação do senso estético e ético, a parti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da criação de cenários, enredos e personagens para tal fim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das discussões que surgem a partir de situações-problemas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2843280" y="5121360"/>
            <a:ext cx="4176720" cy="1736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448320" y="1628640"/>
            <a:ext cx="2695680" cy="47628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5429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455840" y="560520"/>
            <a:ext cx="76881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rograma de incentivo à leitura e produção tex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ivro-carta-m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Me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7093080" y="0"/>
            <a:ext cx="2050920" cy="15382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424160" y="2060640"/>
            <a:ext cx="5329080" cy="37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se atingir os objetivos propostos algumas metas deverão ser cumprid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leitura e a produção textua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m torno de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doze)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ivro-carta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 de 12 (doze)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tra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correspondentes, ações possíve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serem trabalhadas durante o an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) Uma gradual e crescente adesão voluntária 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grama por parte dos alunos, dos pais e 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utros integrantes da comunidade escolar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) A ampliação dos empréstimos de livros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iblioteca, como conseqüência do process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ímulo à leitura e produção text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76520" cy="15429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455840" y="560520"/>
            <a:ext cx="76881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rograma de incentivo à leitura e produção tex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ivro-carta-m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Produtos resultantes desej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093080" y="0"/>
            <a:ext cx="2050920" cy="15382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1403280" y="5810400"/>
            <a:ext cx="7416720" cy="10476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424160" y="2060640"/>
            <a:ext cx="7689600" cy="35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riação de algu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dutos/evento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tirão demonstrar com clareza os resultados alcançados ao longo da aplicação do progra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u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dutos/evento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ítulo de ilustração e sugest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urso literár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ou de redação) após cada estória apresenta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urso de leitura dramatiza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ategoria individual e grupa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ós cada estória apresenta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urso de melhor mural temáti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ategoria grupal, em c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mestre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ira literár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ser apresentada ao público externo (podendo 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egada à feira de cultura ou do conhecimento já existent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ição), a ocorrer em um dos últimos bimest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76520" cy="15429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55840" y="560520"/>
            <a:ext cx="76881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rograma de incentivo à leitura e produção tex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ivro-carta-m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Público-al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093080" y="0"/>
            <a:ext cx="2050920" cy="15382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0" y="5103720"/>
            <a:ext cx="2700360" cy="17542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85680" y="2060640"/>
            <a:ext cx="810108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O público-alvo direto do programa são o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nos do ensi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damental e méd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O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essores e demais integrantes da equipe pedagóg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amb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ão alvo do programa, por meio do treinamento a que ser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metidos, por meio do próprio método livro-car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míli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s alunos pode ser considerada como uma extensão 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úblico-alvo dire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Por meio d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eito contágio positiv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sto é, a leitura das estóri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ita espontaneamente p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nos de outras sér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omando-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nda o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ionári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a escola e os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itan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emos aí 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ável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úblico-alvo indire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900000" y="2560680"/>
            <a:ext cx="768996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 Professor universitário, com formação 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ciologia (UFRJ) e Administração de Empresas (UFF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i profissional da área de informática. É músico am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 Além da atividade docente, o autor tem desenvolv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erial didático, feito traduções e revisões técnic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0360" cy="15271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971640" y="1700280"/>
            <a:ext cx="76881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Abel Sidne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utor do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método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 do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ormato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o programa livro-ca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7469280" y="0"/>
            <a:ext cx="1674720" cy="1773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76520" cy="1542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743880" y="0"/>
            <a:ext cx="2400120" cy="1666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455840" y="560520"/>
            <a:ext cx="768816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Visão panorâmica II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s capítulos são trabalhados dia apó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a, no pátio e/ou em sala de aula, complement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 as atividades de leitura e escrita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m cas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s professores se envolvem em todas 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apas e fazem intervenções mais ou men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retas, buscando-se preservar o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razer da leitur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 a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ludicidad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as atividades propost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ividades complementares ou paralelas poderão 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rescentad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476360" y="4702320"/>
            <a:ext cx="6696000" cy="2155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76520" cy="1542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743880" y="0"/>
            <a:ext cx="2400120" cy="1666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455840" y="560520"/>
            <a:ext cx="6769080" cy="35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Visão panorâmica I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 mural, suporte de apresentação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o final de cada estória se transforma e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spaço para outras atividades/even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 atividades/eventos sugeridos para ocup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 mural, entre uma estória e outra são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xposição dos trabalhos dos aluno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s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murais temático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como o abaixo e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outros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332000" y="3933720"/>
            <a:ext cx="6840360" cy="2552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7652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743880" y="0"/>
            <a:ext cx="2400120" cy="1666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455840" y="560520"/>
            <a:ext cx="6769080" cy="40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Visão panorâmica 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 atividades de produção textu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correm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todos os dia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com pequen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safi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o final de cada narrativa ocorrem os desaf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letivos, em cada turma ou em toda a escol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s professores contarão com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auxiliar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n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rreção dos textos produzidos, para se evit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brecarga de tarefas extr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835280" y="4327560"/>
            <a:ext cx="5832360" cy="2530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76520" cy="1542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55840" y="560520"/>
            <a:ext cx="7688160" cy="39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99"/>
                </a:solidFill>
                <a:latin typeface="Arial"/>
              </a:rPr>
              <a:t>Um pouco de história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s cartas enviadas pelo escritor ao filho 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ora distan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s experimentações e a redescoberta do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form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livro-carta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adaptado para se narrar estóri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 forma prazeros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 inclusão do formato livro-carta na primeira o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o autor –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Esboço da Obra-da-vida-inteira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(2003)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m o conto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As Pernas Curtas de Dona Mentira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362720" y="0"/>
            <a:ext cx="1781280" cy="190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4191120"/>
            <a:ext cx="914400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76520" cy="1542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455840" y="560520"/>
            <a:ext cx="76881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Um longo percurso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ticamente 10 anos separam as cart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o filho e o livro-carta que vai ao m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 setembro de 2006 é realizado o primeiro teste pilot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cola Estadual Juscelino Kubitsche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om 570 alu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ado: as crianças leram com prazer mais de du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zes a estória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 Menino e a Palavra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s pais leram 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s filhos, em casa. A comunidade escolar acompanhou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ve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mur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7362720" y="0"/>
            <a:ext cx="1781280" cy="1905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230480" y="4257720"/>
            <a:ext cx="3787560" cy="2600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5105520" y="4257720"/>
            <a:ext cx="3787560" cy="2600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76520" cy="15429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455840" y="560520"/>
            <a:ext cx="768816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99"/>
                </a:solidFill>
                <a:latin typeface="Arial"/>
              </a:rPr>
              <a:t>A mídia local noticiou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A imprensa fez uma boa cobertura des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rimeira experiênc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eportagem veiculada nos noticiários d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V Rondônia e  Rede TV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eportagem nos jornais O Estadão e 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Diário da Amazôn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ntrevista com o autor nas rádios Caiari 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ultura F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362720" y="0"/>
            <a:ext cx="1781280" cy="190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195640" y="4381560"/>
            <a:ext cx="2028600" cy="2476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5219640" y="4437000"/>
            <a:ext cx="2065320" cy="2421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08:46:00Z</dcterms:created>
  <dc:creator>Abel</dc:creator>
  <dc:description/>
  <dc:language>en-US</dc:language>
  <cp:lastModifiedBy>Abel</cp:lastModifiedBy>
  <dcterms:modified xsi:type="dcterms:W3CDTF">2008-02-07T14:11:43Z</dcterms:modified>
  <cp:revision>54</cp:revision>
  <dc:subject/>
  <dc:title>Slide 1</dc:title>
</cp:coreProperties>
</file>