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9CC-E705-4A7E-9AFC-8EDFDA58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99D-F930-48B8-BEE9-468A56A5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E16-4831-444A-A988-F3829517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D20-5B7D-4E09-902B-216B551A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B06-C5CE-4EF2-91F4-44B9121E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292-494C-4605-9B36-6EF4DC5B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737-AD22-453F-A3F8-57A5B73C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23E-0038-47D8-86AB-CA94C2F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F98-63F0-4AA3-8EDB-A9EB8BC5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645-661F-4351-9DEA-36561888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BE1-6FE5-4210-A52C-5BB9271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E41-826C-4538-B459-E92A0A10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9DD0-1594-455B-A2AF-1F45D89F0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8:24:07Z</dcterms:created>
  <dc:creator>Abel</dc:creator>
  <dc:description/>
  <dc:language>en-US</dc:language>
  <cp:lastModifiedBy>Abel</cp:lastModifiedBy>
  <dcterms:modified xsi:type="dcterms:W3CDTF">2007-12-17T08:24:18Z</dcterms:modified>
  <cp:revision>1</cp:revision>
  <dc:subject/>
  <dc:title>Slide 1</dc:title>
</cp:coreProperties>
</file>