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8F69-D0F7-448B-8CB3-A62F19E95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4A35-8DA6-4C74-8B8F-AFC83B537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6106-6058-4A9A-BCF3-4F330E05C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F735-9FB6-450D-9995-09C89DBDE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26E5-784B-436B-9089-D33554DB6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E72B-BFA6-44D6-BF0E-12E085DE1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698E-8CCE-409A-BA8F-15FC817AC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785E-200C-42F1-8213-95212DD90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0590-D529-4841-93A9-622E2538C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6E38-BF5C-4C34-8761-F7BF648AB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6294-FBF2-4727-8DEE-6F8A49138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F7FB-FD01-42F3-840B-EFBB4EAFC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FAEF8-D00F-4E33-B26A-2D8D1DE935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livro-carta-mural.pps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7T08:15:54Z</dcterms:created>
  <dc:creator>Abel</dc:creator>
  <dc:description/>
  <dc:language>en-US</dc:language>
  <cp:lastModifiedBy>Abel</cp:lastModifiedBy>
  <dcterms:modified xsi:type="dcterms:W3CDTF">2007-12-17T08:19:43Z</dcterms:modified>
  <cp:revision>3</cp:revision>
  <dc:subject/>
  <dc:title>Slide 1</dc:title>
</cp:coreProperties>
</file>