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A4C-AFDB-4395-8834-4CA5ABC7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35E-C6BD-4B64-B489-22773889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4DA-3F8A-4F77-ACA6-2B820958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D18-301C-40E1-8547-84E19EBE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FD6-4B75-44F9-AD30-1866CE43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AC5-1005-49DA-BBBB-B7DEFF93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7C7-7581-4502-8617-6939D729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0BC-2BB3-4929-A8F7-D6D0FC4E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2C9-EDCA-4631-B1E6-501775DC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F26-8F0A-47B4-9381-3AACDF71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16B-11B5-48B3-A8DB-3E918187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64C-3241-4094-B77D-7CD16AE3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F1E9-8997-44C5-9B8B-3C4186339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4:28:59Z</dcterms:created>
  <dc:creator>Abel</dc:creator>
  <dc:description/>
  <dc:language>en-US</dc:language>
  <cp:lastModifiedBy>Abel</cp:lastModifiedBy>
  <dcterms:modified xsi:type="dcterms:W3CDTF">2007-12-17T14:29:10Z</dcterms:modified>
  <cp:revision>1</cp:revision>
  <dc:subject/>
  <dc:title>Slide 1</dc:title>
</cp:coreProperties>
</file>