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383-2A66-4C46-ACAC-161F34CC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4A8-66A3-4180-B504-248F0AED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8F2-3268-40C0-8736-D167414E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B91-C00C-463F-B284-7E90FF81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15E-C632-4962-B197-5E7E1C34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2E5-AF96-4848-BF11-AC10A3B0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B75-F056-4D41-B774-0085F6BC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711-29BF-4E05-979C-D62AE93B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6E3-0077-466E-AF7B-0D1428B6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586-5F58-4850-9FD0-80128553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AF0-6F82-454E-BAAC-16CBF521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B63-9F0F-47AD-A853-0F2763D2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16CD-E0FC-4721-B663-90206C4C4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4:24:02Z</dcterms:created>
  <dc:creator>Abel</dc:creator>
  <dc:description/>
  <dc:language>en-US</dc:language>
  <cp:lastModifiedBy>Abel</cp:lastModifiedBy>
  <dcterms:modified xsi:type="dcterms:W3CDTF">2007-12-17T14:24:25Z</dcterms:modified>
  <cp:revision>1</cp:revision>
  <dc:subject/>
  <dc:title>Slide 1</dc:title>
</cp:coreProperties>
</file>