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96F-6EC0-469B-883E-EB916EF8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066-13E4-4D59-8B97-BFE6C684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8AE-0743-43FE-8BF9-58932763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1EF-8E0F-4126-B230-D67830C0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46C-6B24-4884-AC83-062A538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DE2-740D-48DE-9571-3BF7AA58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376-25C3-42E3-AEDB-FFA5DC6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207-84AA-4CD7-BDE1-72AB847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FDF-379E-4964-BA91-736656A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5E0-6C31-476C-9298-A3EE9CD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E13-2969-40D8-A948-243CEE7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A96-FE47-407C-A7F2-2367363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1B2-858A-4756-8897-5650A53FC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720" y="0"/>
            <a:ext cx="9396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ros modelos de mural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784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979800"/>
            <a:ext cx="91440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0:44:34Z</dcterms:created>
  <dc:creator>Abel</dc:creator>
  <dc:description/>
  <dc:language>en-US</dc:language>
  <cp:lastModifiedBy>Abel</cp:lastModifiedBy>
  <dcterms:modified xsi:type="dcterms:W3CDTF">2008-01-22T00:46:49Z</dcterms:modified>
  <cp:revision>2</cp:revision>
  <dc:subject/>
  <dc:title>Outros modelos de mural  </dc:title>
</cp:coreProperties>
</file>